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BE9-8F1D-4FA4-9F2A-937518BA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8BF-CCE3-41AD-A0C3-FE4AA5A9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0FF-A3AA-4C15-9E6A-6286700F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12D-85F8-4BCC-B465-8B176FD3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1BD-1BF6-4167-88A2-F30AD186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F79-2D59-47A4-BDEB-CD8D403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585-34DF-4749-92AE-2CC23FDC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FE8-1CF4-4983-967F-10481C4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A07-72B7-4D57-9B07-F07022A8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104-5FCF-4CA4-989B-770BFE7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772-B1AD-4E2E-9C32-9A2AD0B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ED8-5612-4BD8-9DC1-70F4A2A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A51-4DB8-4663-BBF3-D848A7A6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280" y="4572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b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para la Prueba del Repaso C el MAR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practice for the last review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/10/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en la cafeteria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_ mucho en la clase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un ga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_________ en el café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mucha cola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Nosotros vivimos en (1)__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ame of city or town)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2)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a esta en la calle (3)_________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name of street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(4)_________ padres tienen un carro. (5)_______ carro es bastante nuevo. Yo tengo una bicicleta. (6)______ bicicleta esta en el garaje con el carro de (7)__________ padres. Nosotros tenemos un perro. (8)__________ perro es ad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(9)_________ perro esta en el jardín. Mi hermano y (10)_________ amigos siempre juegan en el jardín alrededor de (11)____________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bajo en grupo de m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90720" y="12193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3429000" y="39625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per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275040" y="685800"/>
            <a:ext cx="86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Responde con el adjetivo posesivo cor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you-singular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54" name="Cloud"/>
          <p:cNvSpPr/>
          <p:nvPr/>
        </p:nvSpPr>
        <p:spPr>
          <a:xfrm>
            <a:off x="2743200" y="4562640"/>
            <a:ext cx="38098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tu g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e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0368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  <p:sp>
        <p:nvSpPr>
          <p:cNvPr id="59" name="Cloud"/>
          <p:cNvSpPr/>
          <p:nvPr/>
        </p:nvSpPr>
        <p:spPr>
          <a:xfrm>
            <a:off x="3200400" y="4648320"/>
            <a:ext cx="3581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sombre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sp>
        <p:nvSpPr>
          <p:cNvPr id="62" name="Cloud"/>
          <p:cNvSpPr/>
          <p:nvPr/>
        </p:nvSpPr>
        <p:spPr>
          <a:xfrm>
            <a:off x="2590920" y="4648320"/>
            <a:ext cx="3657600" cy="2100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Cloud"/>
          <p:cNvSpPr/>
          <p:nvPr/>
        </p:nvSpPr>
        <p:spPr>
          <a:xfrm>
            <a:off x="3048120" y="4943520"/>
            <a:ext cx="373356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nuestra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HCA016J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i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/>
          <p:cNvSpPr/>
          <p:nvPr/>
        </p:nvSpPr>
        <p:spPr>
          <a:xfrm>
            <a:off x="2971800" y="4495680"/>
            <a:ext cx="380988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gorra az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5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–ER/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: Repaso C on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5-10-20T17:52:26Z</dcterms:modified>
  <cp:revision>19</cp:revision>
  <dc:subject/>
  <dc:title>Slide 1</dc:title>
</cp:coreProperties>
</file>